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0B9-7C5B-43F3-8C70-52DD10E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62E-502B-4EF2-B5C6-611FB4B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D4C-B937-4450-8206-E1C0CC4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432-5222-4C76-A9B8-AB255265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DEFC-CE60-41AD-9FBF-CBF044C8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743-F33C-403D-888D-0A9365F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40D-8914-4086-86B9-9C5FB30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6D5-9F3B-450F-A827-B31F9F2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5522-72E6-49D0-B1B6-13F70204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E83E-789E-4BF6-86A3-65334232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CAD3-60C5-4E2D-909B-060B819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0A5-76FD-480C-987B-B3F3D0FF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AE6-2EC0-4446-A5FD-7F82156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EFB-359C-4476-BE09-B1C167D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E63-D00D-48D9-857B-F566E36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584E-1E3C-48BB-9390-BE575F07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9F69-0443-42CE-BFE6-91DC553D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E89-D551-4DF8-8CE9-6F870E3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C64-5A9F-436E-8423-63C2ABF3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362-F14F-4E3C-B809-A4BF24D1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8A0-4B21-4BF1-8DFB-059BAF7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4C3-7262-4B7D-B054-4B6D906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B54-1925-40B8-AA63-3FD2D9F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089-03BC-4E96-9AA7-61CA0C5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110-DC0A-43E3-B7B3-F3BBD157BA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BA06-F5CD-416E-BD1C-59956716B5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March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 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elements of Gothic fi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8:47:03Z</dcterms:created>
  <dc:creator>VMS</dc:creator>
  <dc:description/>
  <dc:language>en-US</dc:language>
  <cp:lastModifiedBy>VMS</cp:lastModifiedBy>
  <dcterms:modified xsi:type="dcterms:W3CDTF">2009-08-25T20:11:48Z</dcterms:modified>
  <cp:revision>2</cp:revision>
  <dc:subject/>
  <dc:title>Extraordinary English</dc:title>
</cp:coreProperties>
</file>